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116-EC29-4A6C-8666-18B3489D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9D7-9469-4115-A21B-57C21E38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B1D-7079-46A4-B112-D3FA989E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47D-A80B-49E2-A66B-AFAC38FC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37E-753A-4D8E-993B-D1E99998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5CD-5635-45D4-9484-FE89546D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BAF-E47C-4EEE-9417-7F91C538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1AD-B7E9-4CF2-8A53-BF82624F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14D-C203-4C01-8949-B4640A1C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E28-0322-45FB-8443-1F75E33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D8F-A0A4-417E-A2A2-CC8669BF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22C-CFED-41FE-86A7-537E7853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F16A-9435-4256-B038-81A1AE8011EA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Global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poverty j"/>
          <p:cNvPicPr/>
          <p:nvPr/>
        </p:nvPicPr>
        <p:blipFill>
          <a:blip r:embed="rId1"/>
          <a:stretch/>
        </p:blipFill>
        <p:spPr>
          <a:xfrm>
            <a:off x="1809720" y="1600200"/>
            <a:ext cx="552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Child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Number of children in the wor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2.2 b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Number of children in pover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1 b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very second child in the world lives in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untitledj"/>
          <p:cNvPicPr/>
          <p:nvPr/>
        </p:nvPicPr>
        <p:blipFill>
          <a:blip r:embed="rId1"/>
          <a:stretch/>
        </p:blipFill>
        <p:spPr>
          <a:xfrm>
            <a:off x="4800600" y="1981080"/>
            <a:ext cx="329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There is plenty of food in the world – still they die from starv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Poor people lack money to buy enough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y are constantly malnour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y become weaker and often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is makes them increasingly less able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Inability to work makes them even poorer and hung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is downward spiral often continues until death for them and their famil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Poverty"/>
          <p:cNvPicPr/>
          <p:nvPr/>
        </p:nvPicPr>
        <p:blipFill>
          <a:blip r:embed="rId1"/>
          <a:stretch/>
        </p:blipFill>
        <p:spPr>
          <a:xfrm>
            <a:off x="4648320" y="2044800"/>
            <a:ext cx="40384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Death Rates for Po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26,500-30,000 children die each day due to poverty (UNICE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10,6 million children died in 2003 before they reached the age of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1,4 million children die each year from lack of access to safe drinking water and adequate sanitation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400 million people with no access to safe water (1 in 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Almost 5 million children die every year from hunger and hunger-related disea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More than half of these deaths are caused by mal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malnutrition claims a child's life every 5 seconds.</a:t>
            </a:r>
            <a:br>
              <a:rPr sz="1200"/>
            </a:b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Approximately 146 million children in developing countries are under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The majority of 1.8 million child deaths each year are from diarrhea caused by dirty water and poor sani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almost 5,000 every d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making diarrhea the second largest cause of child mor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640 million children without adequate shelter (1 in 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1.3 million people die from malaria each year due  poor sani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90% of these are children under the age of 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700,000 children will die needlessly each year because world governments fail to reduce povert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Most of these children are from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Lack of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hildren without access to education worldw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121 mill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ore than 115 million children are out of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ome 62 million of them are girls. 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untitled"/>
          <p:cNvPicPr/>
          <p:nvPr/>
        </p:nvPicPr>
        <p:blipFill>
          <a:blip r:embed="rId1"/>
          <a:stretch/>
        </p:blipFill>
        <p:spPr>
          <a:xfrm>
            <a:off x="4648320" y="1673280"/>
            <a:ext cx="403848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000000"/>
                </a:solidFill>
                <a:latin typeface="Arial"/>
              </a:rPr>
              <a:t>Health of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Worldw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0 million children with no access to health services (1 in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2,2 million children die each year because they are not immuniz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.5 million people live with HIV/AIDS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 percent of which live in Sub-Saharan Afr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than 10 million children in Africa have been orphaned by A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rls and women are especially vulnerable to HIV infection and A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bally, more than half of all people living with HIV are 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418684007_04906bc79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Goals for the 21st century</a:t>
            </a:r>
            <a:br>
              <a:rPr sz="4000"/>
            </a:b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Millennium Development Goals (MDG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verty Goal by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ducing the number of people living on less than a dollar a day by half by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reduction of extremely poor by 363 million people by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9 countries signed the Millennium Development Goals Declaration in September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DGs consist of eight goals to be reached by 201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radicate extreme poverty and hu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hieve primary education for all (basic educ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mote gender equality and empower wom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duce child morta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mprove maternal heal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bat HIV/AIDS, malaria, and other diseas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uarantee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 a global partnership for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ganda_poor_people"/>
          <p:cNvPicPr/>
          <p:nvPr/>
        </p:nvPicPr>
        <p:blipFill>
          <a:blip r:embed="rId1"/>
          <a:stretch/>
        </p:blipFill>
        <p:spPr>
          <a:xfrm>
            <a:off x="4800600" y="1676520"/>
            <a:ext cx="3733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By Nina Sandström Angel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elbu videregående s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Competence Aims</a:t>
            </a:r>
            <a:br>
              <a:rPr sz="4400"/>
            </a:b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International Engli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e, society and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ims of the studi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able pupil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laborate on and discuss a number of international and global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b-NO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lassholder for innhold 8" descr="blue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Developing and Developed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hird World countries are often described as “develop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veloping country is a country that often h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standards of democratic gover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orly developed industr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adequate social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w human rights guarantees for its citiz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ow level of material well-be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First World countries or industrialized nations are often described as “develop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Blue: Advanced 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Yellow: Emerging and developing 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Not the least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Red: Emerging and developing 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The least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800px-Imf-advanced-un-least-developed-2008_svg"/>
          <p:cNvPicPr/>
          <p:nvPr/>
        </p:nvPicPr>
        <p:blipFill>
          <a:blip r:embed="rId1"/>
          <a:stretch/>
        </p:blipFill>
        <p:spPr>
          <a:xfrm>
            <a:off x="4495680" y="3352680"/>
            <a:ext cx="4310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What is Pover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h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lack of shelter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being sick and not being able to see a doctor – no access to medical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not having a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fear for the future -living one day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losing a child to illness brought about by unclean water and poor san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powerlessness, lack of representation and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starvation"/>
          <p:cNvPicPr/>
          <p:nvPr/>
        </p:nvPicPr>
        <p:blipFill>
          <a:blip r:embed="rId1"/>
          <a:stretch/>
        </p:blipFill>
        <p:spPr>
          <a:xfrm>
            <a:off x="5181480" y="1905120"/>
            <a:ext cx="304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Living Below the Poverty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Poverty Li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A common method used to measure poverty is based on incomes or consumption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A person is considered poor if his or her consumption or income level falls below some minimum level necessary to meet basic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This minimum level is usually called the "poverty lin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Living below the poverty li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Extreme economic poverty today is defined as living on less than $ 1 to1.25 per d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poverty%20in%20morocco"/>
          <p:cNvPicPr/>
          <p:nvPr/>
        </p:nvPicPr>
        <p:blipFill>
          <a:blip r:embed="rId1"/>
          <a:stretch/>
        </p:blipFill>
        <p:spPr>
          <a:xfrm>
            <a:off x="4648320" y="1857240"/>
            <a:ext cx="40384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The Wealth Divide I</a:t>
            </a:r>
            <a:br>
              <a:rPr sz="4000"/>
            </a:b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lobal Pov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stimated 1.2 billion people live on less than a dollar a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7 billion people live on less than $2 a 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DP (Gross Domestic Product) of the poorest 48 nations (of the world's countries) is less than the combined wealth of the world's 3 richest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million people die every year from hunger and hunger-related diseas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half of the victims are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imately 790 million people in the developing world are chronically undernouris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most two-thirds reside in Asia and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3 billion have no access to clean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billion have no access to san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billion have no access to 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923 million people worldwide suffer from hunger (1 in 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907 million of the the hungry are from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arly 1 billion people are unable to read a book or sign their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The Wealth Divide II</a:t>
            </a:r>
            <a:br>
              <a:rPr sz="4000"/>
            </a:b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lobal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ew hundred millionaires own as much wealth as the world's poorest 2,5 billion peo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chest 50 million people in Europe and North America have the same income as 2,7 billion poor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% of the world's population use 85% of its wat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12% do not live in the Third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% of the population in developed nations consume 86% of the world's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3% of the world's population controlled 25% of the world's assets in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starvation"/>
          <p:cNvPicPr/>
          <p:nvPr/>
        </p:nvPicPr>
        <p:blipFill>
          <a:blip r:embed="rId1"/>
          <a:stretch/>
        </p:blipFill>
        <p:spPr>
          <a:xfrm>
            <a:off x="5254560" y="1600200"/>
            <a:ext cx="282420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obesity_picture_small"/>
          <p:cNvPicPr/>
          <p:nvPr/>
        </p:nvPicPr>
        <p:blipFill>
          <a:blip r:embed="rId2"/>
          <a:stretch/>
        </p:blipFill>
        <p:spPr>
          <a:xfrm>
            <a:off x="5181480" y="3938760"/>
            <a:ext cx="2971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This Is How We Spent Our Money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Global Priority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$U.S. Bill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osmetics in the United States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      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Ice cream in Europe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            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Perfumes in Europe and the United States           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Pet foods in Europe and the United States             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Business entertainment in Japan                              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igarettes in Europe                                                   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Alcoholic drinks in Europe                                         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Narcotic drugs in the world                                       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Military spending in the world                                    7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Costs Providing Basic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, Water, Sanitation, Health and Foo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in Develop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lobal Priority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$U.S. Bil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asic education for all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Water and sanitation for all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      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eproductive health for all women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asic health and nutrition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         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08-19T22:03:3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